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E822-0D81-4F6D-9A82-1AC99CF390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Halogen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y Tom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hri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es of Bromin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romine is one of the main ingredients in camera films (as silver bromide)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Bro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mine is one of the main ingredients in camera films (as silver bromid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es of Iodin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hen dissolved in water, iodine can be used as a strong antiseptic or as a test for starch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issolved in water, iodine can be used as a strong antiseptic or as a test for star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Thank you for watching !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for watching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Halogen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halogens are a group of non- metals in the periodic tabl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y all have seven electrons in their outer shell this makes them all really reactive; they only have to gain one more electron to fill their outer shell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nlike Group One the elements get less reactive as you go down the group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logens are a group of non- metals in the periodic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 have seven electrons in their outer shell this makes them all really reactive; they only have to gain one more electron to fill their outer sh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Group One the elements get less reactive as you go down the grou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luorine  (F)  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     2,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ame: Fluorine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ymbol: F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Number: 9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Mass: 18.998404 amu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lting Point: -219.62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oiling Point: -188.14 °C 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Protons/Electrons: 9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Neutrons: 10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lour: Greenish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orine  (F)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2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Fluor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: 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 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Mass: 18.998404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int: -219.62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iling Point: -188.14 °C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/Electrons: 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: 1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: Green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hlorine (Cl)                               2,8,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ame: Chlorine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ymbol: Cl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Number: 17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Mass: 35.4527 amu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lting Point: -100.98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oiling Point: -34.6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Protons/Electrons: 17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Neutrons: 1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lour: green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(Cl)                               2,8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Chlor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: C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 1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Mass: 35.452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int: -100.98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iling Point: -34.6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/Electrons: 1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: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: gree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romine (Br)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    2,8,18,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ame: Bromine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ymbol: Br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Number: 35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Mass: 79.904 amu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lting Point: -7.2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oiling Point: 58.78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Protons/Electrons: 35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Neutrons: 45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lour: Red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mine (Br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2,8,18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Brom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: B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 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Mass: 79.904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int: -7.2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iling Point: 58.78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/Electrons: 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: 4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: 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Iodine (I)                            2,8,18,18,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ame: Iodine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ymbol: I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Number: 53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Mass: 126.90447 amu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lting Point: 113.5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oiling Point: 184.0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Protons/Electrons: 53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Neutrons: 74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lour: blackish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dine (I)                            2,8,18,18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Iod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: I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 5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Mass: 126.9044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int: 113.5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iling Point: 184.0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/Electrons: 5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: 7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: black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statine (At)                 2,8,18,32,18,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ame: Astatine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ymbol: At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Number: 85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Mass: (210.0) amu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lting Point: 302.0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oiling Point: 337.0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Protons/Electrons: 85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Neutrons: 125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lour: Unknown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atine (At)                 2,8,18,32,18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Astat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: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 8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Mass: (210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int: 302.0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iling Point: 337.0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/Electrons: 8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: 12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: Unkn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es of Fluorin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main use of fluorine is toothpaste even though it isn’t as fluorine itself but instead as fluoride, a compound of fluorine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in use of fluorine is toothpaste even though it isn’t as fluorine itself but instead as fluoride, a compound of fluor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es of Chlorin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hlorine is used mostly to kill bacteria or as a bleach. Chlorine bleaches  a piece of universal indicator paper white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used mostly to kill bacteria or as a bleach. Chlorine bleaches  a piece of universal indicator paper wh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0806-9646-4616-A707-1F9FA5D9E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1CF1-9E57-4250-BFF5-0C65E834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83B9-1136-4CDD-B5A2-CB40CEF1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DB92-0925-4408-943D-A7DBB7D92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84B0-014C-46F5-8876-FB6BE4E78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69B9-8200-4159-831E-76A342FB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519F-9B95-46F9-A169-6452EE27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C186-BA05-4F05-9230-DBC7D340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01FD-CD67-46BF-9D1D-9DF74910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6844-66F9-4FDB-B150-291AED0E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B532-1DBC-41F0-AE25-FE8E1208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02C7-7E7B-4AE1-99F9-7F10C914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EF56-E1E4-45FD-AA3A-67E1A528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7B53-E767-44ED-A48C-F0C1EED7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49B6-1F63-452F-8741-EBCA6008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B057-46F4-4897-9541-20B95691E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4DE6-B901-4588-9B29-8543B5557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6508-90B2-4C80-9F87-083A59AF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D492-FB4A-49A7-9161-6A82E502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9233-D9BE-4D61-A722-CE7744AF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9CB0-E0A4-4F1F-9412-FB373B97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9760-554A-496D-BF40-663B2EE6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55A9-A1C4-4DF5-AB01-B5D3932B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B201-2ACA-4933-873A-3D2A71F4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D93C-9300-4E9A-AB8C-CCF6507D766B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E16C-4024-489C-9B3C-16EC61AA6BDC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The Haloge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By Tom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Chr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5" descr="j0076135"/>
          <p:cNvPicPr/>
          <p:nvPr/>
        </p:nvPicPr>
        <p:blipFill>
          <a:blip r:embed="rId1"/>
          <a:stretch/>
        </p:blipFill>
        <p:spPr>
          <a:xfrm>
            <a:off x="609480" y="5006880"/>
            <a:ext cx="2549520" cy="1851120"/>
          </a:xfrm>
          <a:prstGeom prst="rect">
            <a:avLst/>
          </a:prstGeom>
          <a:ln w="0">
            <a:noFill/>
          </a:ln>
        </p:spPr>
      </p:pic>
    </p:spTree>
  </p:cSld>
  <p:transition advTm="4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Uses of Brom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Picture 3" descr="images"/>
          <p:cNvPicPr/>
          <p:nvPr/>
        </p:nvPicPr>
        <p:blipFill>
          <a:blip r:embed="rId1"/>
          <a:stretch/>
        </p:blipFill>
        <p:spPr>
          <a:xfrm>
            <a:off x="990720" y="2590920"/>
            <a:ext cx="2895480" cy="25606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4114800" y="25909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Bromine is one of the main ingredients in camera films (as silver bromide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Uses of Iod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Picture 3" descr="pg%2050%20safecross%20antiseptic"/>
          <p:cNvPicPr/>
          <p:nvPr/>
        </p:nvPicPr>
        <p:blipFill>
          <a:blip r:embed="rId1"/>
          <a:stretch/>
        </p:blipFill>
        <p:spPr>
          <a:xfrm>
            <a:off x="838080" y="2438280"/>
            <a:ext cx="2394000" cy="26053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3352680" y="25146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When dissolved in water, iodine can be used as a strong antiseptic or as a test for starch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ank you for watching 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Haloge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914400" y="2362320"/>
            <a:ext cx="49528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The halogens are a group of non- metals in the periodic tab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They all have seven electrons in their outer shell this makes them all really reactive; they only have to gain one more electron to fill their outer shell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Unlike Group One the elements get less reactive as you go down the group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Fluorine  (F)   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     2,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990720" y="2438280"/>
            <a:ext cx="556236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ame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Fluorine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Symbol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F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Numbe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9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Mas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8.998404 amu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Melt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-219.62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Boil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-188.14 °C 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Protons/Elec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9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Neu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0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Colou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Greenish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715000" y="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9" name="Picture 6" descr="b0009"/>
          <p:cNvPicPr/>
          <p:nvPr/>
        </p:nvPicPr>
        <p:blipFill>
          <a:blip r:embed="rId1"/>
          <a:stretch/>
        </p:blipFill>
        <p:spPr>
          <a:xfrm>
            <a:off x="5562720" y="3360600"/>
            <a:ext cx="3273480" cy="3241800"/>
          </a:xfrm>
          <a:prstGeom prst="rect">
            <a:avLst/>
          </a:prstGeom>
          <a:ln w="0">
            <a:noFill/>
          </a:ln>
        </p:spPr>
      </p:pic>
    </p:spTree>
  </p:cSld>
  <p:transition advTm="13000">
    <p:checker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lorine (Cl)                               2,8,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746280" y="2395440"/>
            <a:ext cx="474012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ame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Chlorine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Symbol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Cl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Numbe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7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Mas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35.4527 amu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Melt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-100.98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Boil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-34.6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Protons/Elec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7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Neu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8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Colou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green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638680" y="358128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3" name="Picture 5" descr="b0009"/>
          <p:cNvPicPr/>
          <p:nvPr/>
        </p:nvPicPr>
        <p:blipFill>
          <a:blip r:embed="rId1"/>
          <a:stretch/>
        </p:blipFill>
        <p:spPr>
          <a:xfrm>
            <a:off x="5638680" y="3381480"/>
            <a:ext cx="3505320" cy="34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romine (Br) 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    2,8,18,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838080" y="2362320"/>
            <a:ext cx="472464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ame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Bromine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Symbol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Br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Numbe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35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Mas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79.904 amu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Melt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-7.2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Boil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58.78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Protons/Elec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35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Neu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45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Colou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Red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6" name="Picture 4" descr="b0009"/>
          <p:cNvPicPr/>
          <p:nvPr/>
        </p:nvPicPr>
        <p:blipFill>
          <a:blip r:embed="rId1"/>
          <a:stretch/>
        </p:blipFill>
        <p:spPr>
          <a:xfrm>
            <a:off x="5029200" y="2771640"/>
            <a:ext cx="4114800" cy="408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Iodine (I)                            2,8,18,18,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838080" y="2438280"/>
            <a:ext cx="4800600" cy="34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ame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Iodine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Symbol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I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Numbe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53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Mas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26.90447 amu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Melt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13.5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Boil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84.0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Protons/Elec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53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Neu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74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Colour: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 blackish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9" name="Picture 4" descr="b0009"/>
          <p:cNvPicPr/>
          <p:nvPr/>
        </p:nvPicPr>
        <p:blipFill>
          <a:blip r:embed="rId1"/>
          <a:stretch/>
        </p:blipFill>
        <p:spPr>
          <a:xfrm>
            <a:off x="5029200" y="2971800"/>
            <a:ext cx="391320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statine (At)                 2,8,18,32,18,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90720" y="2438280"/>
            <a:ext cx="43434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ame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Astatine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Symbol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At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Numbe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85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Mas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(210.0) amu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Melt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302.0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Boil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337.0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Protons/Elec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85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Neu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25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Colou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Unknown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2" name="Picture 4" descr="b0009"/>
          <p:cNvPicPr/>
          <p:nvPr/>
        </p:nvPicPr>
        <p:blipFill>
          <a:blip r:embed="rId1"/>
          <a:stretch/>
        </p:blipFill>
        <p:spPr>
          <a:xfrm>
            <a:off x="5086440" y="2822400"/>
            <a:ext cx="4057560" cy="403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Uses of Fluor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Picture 3" descr="45"/>
          <p:cNvPicPr/>
          <p:nvPr/>
        </p:nvPicPr>
        <p:blipFill>
          <a:blip r:embed="rId1"/>
          <a:stretch/>
        </p:blipFill>
        <p:spPr>
          <a:xfrm>
            <a:off x="838080" y="2438280"/>
            <a:ext cx="3581640" cy="26863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4648320" y="24382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The main use of fluorine is toothpaste even though it isn’t as fluorine itself but instead as </a:t>
            </a:r>
            <a:r>
              <a:rPr b="1" lang="en-GB" sz="2400" spc="-1" strike="noStrike">
                <a:solidFill>
                  <a:srgbClr val="003366"/>
                </a:solidFill>
                <a:latin typeface="Times New Roman"/>
              </a:rPr>
              <a:t>fluoride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, a compound of fluorin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Uses of Chlor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7" name="Picture 3" descr="76"/>
          <p:cNvPicPr/>
          <p:nvPr/>
        </p:nvPicPr>
        <p:blipFill>
          <a:blip r:embed="rId1"/>
          <a:stretch/>
        </p:blipFill>
        <p:spPr>
          <a:xfrm>
            <a:off x="838080" y="2438280"/>
            <a:ext cx="3759480" cy="28195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"/>
          <p:cNvSpPr/>
          <p:nvPr/>
        </p:nvSpPr>
        <p:spPr>
          <a:xfrm>
            <a:off x="4800600" y="2438280"/>
            <a:ext cx="335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Chlorine is used mostly to kill bacteria or as a bleach. Chlorine bleaches  a piece of universal indicator paper whit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08:55:28Z</dcterms:created>
  <dc:creator>A User</dc:creator>
  <dc:description/>
  <dc:language>en-US</dc:language>
  <cp:lastModifiedBy>RomaK</cp:lastModifiedBy>
  <dcterms:modified xsi:type="dcterms:W3CDTF">2015-09-02T06:04:18Z</dcterms:modified>
  <cp:revision>9</cp:revision>
  <dc:subject/>
  <dc:title>The Halogens</dc:title>
</cp:coreProperties>
</file>